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88840" y="404604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4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7932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7016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8884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7932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7016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88840" y="177840"/>
            <a:ext cx="736632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4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4000"/>
          </a:bodyPr>
          <a:p>
            <a:pPr marL="620280" indent="-41724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428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265040" indent="-41724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599480" indent="-41724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9220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9220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9220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s://unotices.com/writers_all/belinskii_vissarion_grigorevich/belinskii_vissarion_grigorevich-4.jpg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dic.academic.ru/dic.nsf/ushakov/1100370" TargetMode="External"/><Relationship Id="rId3" Type="http://schemas.openxmlformats.org/officeDocument/2006/relationships/hyperlink" Target="https://dic.academic.ru/dic.nsf/ushakov/1017626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s://prodeteey.ru/wp-content/uploads/2019/06/iStock-182359725.jpg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tionary.org/w/index.php?title=&#1089;&#1098;&#1074;&#1100;&#1088;&#1089;&#1090;&#1100;&#1085;&#1080;&#1082;&#1098;&amp;action=edit&amp;redlink=1" TargetMode="External"/><Relationship Id="rId3" Type="http://schemas.openxmlformats.org/officeDocument/2006/relationships/hyperlink" Target="https://ru.wiktionary.org/w/index.php?title=&#1089;&#1098;&#1074;&#1100;&#1088;&#1089;&#1090;&#1100;&#1085;&#1098;&amp;action=edit&amp;redlink=1" TargetMode="External"/><Relationship Id="rId4" Type="http://schemas.openxmlformats.org/officeDocument/2006/relationships/hyperlink" Target="https://ru.wiktionary.org/w/index.php?title=&#1089;&#1098;&#1074;&#1100;&#1088;&#1089;&#1090;&#1100;&amp;action=edit&amp;redlink=1" TargetMode="External"/><Relationship Id="rId5" Type="http://schemas.openxmlformats.org/officeDocument/2006/relationships/hyperlink" Target="https://ru.wiktionary.org/wiki/&#1074;&#1077;&#1088;&#1089;&#1090;&#1072;" TargetMode="External"/><Relationship Id="rId6" Type="http://schemas.openxmlformats.org/officeDocument/2006/relationships/hyperlink" Target="https://ru.wiktionary.org/wiki/&#1074;&#1077;&#1088;&#1089;&#1090;&#1072;" TargetMode="External"/><Relationship Id="rId7" Type="http://schemas.openxmlformats.org/officeDocument/2006/relationships/hyperlink" Target="https://ru.wiktionary.org/wiki/&#1089;&#1074;&#1077;&#1088;&#1089;&#1090;&#1085;&#1080;&#1082;" TargetMode="Externa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oslovitsy-pogovorki.com/p/16290.php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-736560" y="-95400"/>
            <a:ext cx="10096560" cy="771048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/>
          <p:nvPr/>
        </p:nvSpPr>
        <p:spPr>
          <a:xfrm>
            <a:off x="1041480" y="2279520"/>
            <a:ext cx="8128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d0007"/>
                </a:solidFill>
                <a:latin typeface="Times New Roman"/>
                <a:ea typeface="Times New Roman"/>
              </a:rPr>
              <a:t>                  </a:t>
            </a:r>
            <a:r>
              <a:rPr b="1" lang="en-US" sz="3800" spc="-1" strike="noStrike">
                <a:solidFill>
                  <a:srgbClr val="fd0007"/>
                </a:solidFill>
                <a:latin typeface="Times New Roman"/>
                <a:ea typeface="Times New Roman"/>
              </a:rPr>
              <a:t>Проект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d0007"/>
                </a:solidFill>
                <a:latin typeface="Times New Roman"/>
                <a:ea typeface="Times New Roman"/>
              </a:rPr>
              <a:t>" Знатоки русского     языка "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736560" y="-95400"/>
            <a:ext cx="10096560" cy="7710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4160" y="1022400"/>
            <a:ext cx="8127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0007"/>
                </a:solidFill>
                <a:latin typeface="Times New Roman"/>
                <a:ea typeface="Times New Roman"/>
              </a:rPr>
              <a:t>" Гонять лодыря 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"/>
          <p:cNvSpPr/>
          <p:nvPr/>
        </p:nvSpPr>
        <p:spPr>
          <a:xfrm>
            <a:off x="876240" y="1568520"/>
            <a:ext cx="6870600" cy="30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ленивого ученика голова идёт кругом, дух захватывает и мороз по коже, когда речь идет о самостоятельном выполнении домашнего задания. Он ждет у моря погоды, чтоб гора с плеч сама свалилась и готов опустить руки при малейших трудностях, показывая родителям, что он уже валится с ног. На уроке он сидит ни жив ни мёртв, и на седьмом небе, если его не вызвали к доске. Он всегда сидит, будто язык проглотил. Уроков жизни близко к сердцу не принимает, и вида не показывает, что у него есть мозги. Хотя люди с мозгами на его месте сгорели бы от стыда, мечтая сквозь землю провалиться.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901800" y="-95400"/>
            <a:ext cx="10096560" cy="7710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1120" y="1155600"/>
            <a:ext cx="6926040" cy="51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482760" y="-57240"/>
            <a:ext cx="10096560" cy="7710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849400" y="886320"/>
            <a:ext cx="29376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Проект выполняли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"/>
          <p:cNvSpPr/>
          <p:nvPr/>
        </p:nvSpPr>
        <p:spPr>
          <a:xfrm>
            <a:off x="1604880" y="1695600"/>
            <a:ext cx="605808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Руководитель проекта: Кабанова Ирина Викторовна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Сценарист: Фаизова Эвелина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Технический редактор: Чернышева Юлия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Наборщик: Банина Ксения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Дизайнер: Гимаева Эльвина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-888840" y="-82440"/>
            <a:ext cx="10096200" cy="771048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957480" y="898560"/>
            <a:ext cx="3657600" cy="337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05160" y="5219640"/>
            <a:ext cx="316260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сарион Григорьевич Белинский— русский литературный критик (1811-1848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"/>
          <p:cNvSpPr/>
          <p:nvPr/>
        </p:nvSpPr>
        <p:spPr>
          <a:xfrm>
            <a:off x="711360" y="1047600"/>
            <a:ext cx="35557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 русский язык — один из богатейших языков в мире, в этом нет никакого сомнения»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"/>
          <p:cNvSpPr/>
          <p:nvPr/>
        </p:nvSpPr>
        <p:spPr>
          <a:xfrm>
            <a:off x="581040" y="2419200"/>
            <a:ext cx="355608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потреблять иностранное слово, когда есть равносильное ему русское слово, — значит оскорблять и здравый смысл, и здравый вкус»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"/>
          <p:cNvSpPr/>
          <p:nvPr/>
        </p:nvSpPr>
        <p:spPr>
          <a:xfrm>
            <a:off x="4192560" y="4394160"/>
            <a:ext cx="3454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800360"/>
                <a:tab algn="l" pos="2249640"/>
                <a:tab algn="l" pos="2698920"/>
                <a:tab algn="l" pos="3149640"/>
                <a:tab algn="l" pos="3598920"/>
                <a:tab algn="l" pos="4049640"/>
                <a:tab algn="l" pos="4498920"/>
                <a:tab algn="l" pos="4950000"/>
                <a:tab algn="l" pos="5398920"/>
                <a:tab algn="l" pos="5797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s://unotices.com/writers_all/belinskii_vissarion_grigorevich/belinskii_vissarion_grigorevich-4.jp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82760" y="-425520"/>
            <a:ext cx="10096560" cy="7710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268280" y="2023920"/>
            <a:ext cx="6121440" cy="1957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959200" y="1225440"/>
            <a:ext cx="27302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0007"/>
                </a:solidFill>
                <a:latin typeface="Times New Roman"/>
                <a:ea typeface="Times New Roman"/>
              </a:rPr>
              <a:t>Реши ребус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"/>
          <p:cNvSpPr/>
          <p:nvPr/>
        </p:nvSpPr>
        <p:spPr>
          <a:xfrm>
            <a:off x="1168560" y="4210200"/>
            <a:ext cx="68068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крипция слова: [св’эрс’н’ик]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етании букв -стн- произносится как [сн], буква т не произносится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736560" y="-95400"/>
            <a:ext cx="10096560" cy="7710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031840" y="929520"/>
            <a:ext cx="45561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Происхождение слова сверстник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"/>
          <p:cNvSpPr/>
          <p:nvPr/>
        </p:nvSpPr>
        <p:spPr>
          <a:xfrm>
            <a:off x="977760" y="1390680"/>
            <a:ext cx="68454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́РСТНИ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сн], сверстника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муж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ей и кого с кем. Человек одинакового с кем-нибудь возраста, однолеток. Мы с ним сверстники. Его сверстник. Мой сверстник (от "верста", означавшего встарину также "возраст".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89"/>
                </a:solidFill>
                <a:uFillTx/>
                <a:latin typeface="Times New Roman"/>
                <a:ea typeface="Times New Roman"/>
              </a:rPr>
              <a:t>http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s://dic.academic.ru/dic.nsf/ushakov/1017626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57160" y="2908440"/>
            <a:ext cx="5067360" cy="3378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015920" y="6261120"/>
            <a:ext cx="47624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5"/>
              </a:rPr>
              <a:t>https://prodeteey.ru/wp-content/uploads/2019/06/iStock-182359725.jpg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736560" y="-95400"/>
            <a:ext cx="10096560" cy="7710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77760" y="990720"/>
            <a:ext cx="718848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0007"/>
                </a:solidFill>
                <a:latin typeface="Times New Roman"/>
                <a:ea typeface="Times New Roman"/>
              </a:rPr>
              <a:t>Какие ассоциации возникают у вас, когда вы слышите слово «сверстник?»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"/>
          <p:cNvSpPr/>
          <p:nvPr/>
        </p:nvSpPr>
        <p:spPr>
          <a:xfrm>
            <a:off x="1028880" y="1790640"/>
            <a:ext cx="68198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стник 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тот, с кем ты прошел одинаковое количество верст, поэтому проверочное слово здесь –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ста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ревнерусском языке существительно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ст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значало «возраст», «сверстник», «пара», «ровня». 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весник 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т, с кем ты прожил равное количество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ёсе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сТник вырастае с версту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 ровеСНик всю весну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4159080"/>
            <a:ext cx="7061040" cy="21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ff2712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ff2712"/>
                </a:solidFill>
                <a:latin typeface="Times New Roman"/>
                <a:ea typeface="Times New Roman"/>
              </a:rPr>
              <a:t>Этимология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сходит от др.-русск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съвьрстьникъ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 u="sng">
                <a:solidFill>
                  <a:srgbClr val="0000ee"/>
                </a:solidFill>
                <a:uFillTx/>
                <a:latin typeface="Times New Roman"/>
                <a:ea typeface="Times New Roman"/>
              </a:rPr>
              <a:t>съвьрстьнъ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одного воз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ста», </a:t>
            </a:r>
            <a:r>
              <a:rPr b="0" lang="en-US" sz="1800" spc="-1" strike="noStrike" u="sng">
                <a:solidFill>
                  <a:srgbClr val="0000ee"/>
                </a:solidFill>
                <a:uFillTx/>
                <a:latin typeface="Times New Roman"/>
                <a:ea typeface="Times New Roman"/>
              </a:rPr>
              <a:t>съвьрст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ил.) – то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же, сущ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– "одинаковый возраст, пара". Связано с </a:t>
            </a:r>
            <a:r>
              <a:rPr b="0" lang="en-US" sz="1800" spc="-1" strike="noStrike" u="sng">
                <a:solidFill>
                  <a:srgbClr val="0000ee"/>
                </a:solidFill>
                <a:uFillTx/>
                <a:latin typeface="Times New Roman"/>
                <a:ea typeface="Times New Roman"/>
              </a:rPr>
              <a:t>верст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, др.-русск. </a:t>
            </a:r>
            <a:r>
              <a:rPr b="0" lang="en-US" sz="1800" spc="-1" strike="noStrike" u="sng">
                <a:solidFill>
                  <a:srgbClr val="0000ee"/>
                </a:solidFill>
                <a:uFillTx/>
                <a:latin typeface="Times New Roman"/>
                <a:ea typeface="Times New Roman"/>
              </a:rPr>
              <a:t>вьрст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</a:t>
            </a:r>
            <a:r>
              <a:rPr b="0" lang="en-US" sz="1800" spc="-1" strike="noStrike" u="sng">
                <a:solidFill>
                  <a:srgbClr val="0000ee"/>
                </a:solidFill>
                <a:uFillTx/>
                <a:latin typeface="Times New Roman"/>
                <a:ea typeface="Times New Roman"/>
              </a:rPr>
              <a:t>во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зраст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»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 ст.-слав. </a:t>
            </a:r>
            <a:r>
              <a:rPr b="0" lang="en-US" sz="1800" spc="-1" strike="noStrike" u="sng">
                <a:solidFill>
                  <a:srgbClr val="0000ee"/>
                </a:solidFill>
                <a:uFillTx/>
                <a:latin typeface="Times New Roman"/>
                <a:ea typeface="Times New Roman"/>
              </a:rPr>
              <a:t>връста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"/>
          <p:cNvSpPr/>
          <p:nvPr/>
        </p:nvSpPr>
        <p:spPr>
          <a:xfrm>
            <a:off x="1486080" y="5791320"/>
            <a:ext cx="61592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https://ru.wiktionary.org/wiki/%D1%81%D0%B2%D0%B5%D1%80%D1%81%D1%82%D0%BD%D0%B8%D0%B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736560" y="-95400"/>
            <a:ext cx="10096560" cy="7710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01800" y="2101680"/>
            <a:ext cx="6921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Глядя на свою тень, красивым становишься, глядя на своих сверстников, умным становишься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Бурятские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"/>
          <p:cNvSpPr/>
          <p:nvPr/>
        </p:nvSpPr>
        <p:spPr>
          <a:xfrm>
            <a:off x="2837160" y="1302840"/>
            <a:ext cx="267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0007"/>
                </a:solidFill>
                <a:latin typeface="Times New Roman"/>
                <a:ea typeface="Times New Roman"/>
              </a:rPr>
              <a:t>Слово в фольклоре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"/>
          <p:cNvSpPr/>
          <p:nvPr/>
        </p:nvSpPr>
        <p:spPr>
          <a:xfrm>
            <a:off x="1866960" y="5778360"/>
            <a:ext cx="46227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https://static-ssl.businessinsider.com/image/57ac894cdb5ce925008b6106-2400/kids-watching-tablet.jpg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790640" y="2997360"/>
            <a:ext cx="5156280" cy="25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736560" y="-95400"/>
            <a:ext cx="10096560" cy="7710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762280" y="1231920"/>
            <a:ext cx="308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Gill Sans"/>
                <a:ea typeface="Gill Sans"/>
              </a:rPr>
              <a:t>«Облако слов»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"/>
          <p:cNvSpPr/>
          <p:nvPr/>
        </p:nvSpPr>
        <p:spPr>
          <a:xfrm>
            <a:off x="6400800" y="3149640"/>
            <a:ext cx="1270080" cy="1270080"/>
          </a:xfrm>
          <a:prstGeom prst="wedgeEllipseCallout">
            <a:avLst>
              <a:gd name="adj1" fmla="val -27625"/>
              <a:gd name="adj2" fmla="val -75032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  <a:ea typeface="Gill Sans"/>
              </a:rPr>
              <a:t>ровесник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"/>
          <p:cNvSpPr/>
          <p:nvPr/>
        </p:nvSpPr>
        <p:spPr>
          <a:xfrm>
            <a:off x="6389640" y="3575160"/>
            <a:ext cx="1346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ровесник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4406760"/>
            <a:ext cx="1270080" cy="1270080"/>
          </a:xfrm>
          <a:prstGeom prst="wedgeEllipseCallout">
            <a:avLst>
              <a:gd name="adj1" fmla="val -63402"/>
              <a:gd name="adj2" fmla="val 58453"/>
            </a:avLst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  <a:ea typeface="Gill Sans"/>
              </a:rPr>
              <a:t>ровесник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"/>
          <p:cNvSpPr/>
          <p:nvPr/>
        </p:nvSpPr>
        <p:spPr>
          <a:xfrm>
            <a:off x="1549440" y="3327480"/>
            <a:ext cx="1270080" cy="1270080"/>
          </a:xfrm>
          <a:prstGeom prst="wedgeEllipseCallout">
            <a:avLst>
              <a:gd name="adj1" fmla="val -63402"/>
              <a:gd name="adj2" fmla="val 58453"/>
            </a:avLst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  <a:ea typeface="Gill Sans"/>
              </a:rPr>
              <a:t>ровесник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2082960"/>
            <a:ext cx="1270080" cy="1320480"/>
          </a:xfrm>
          <a:prstGeom prst="wedgeEllipseCallout">
            <a:avLst>
              <a:gd name="adj1" fmla="val -63402"/>
              <a:gd name="adj2" fmla="val 54282"/>
            </a:avLst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  <a:ea typeface="Gill Sans"/>
              </a:rPr>
              <a:t>ровесник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"/>
          <p:cNvSpPr/>
          <p:nvPr/>
        </p:nvSpPr>
        <p:spPr>
          <a:xfrm>
            <a:off x="2552760" y="1905120"/>
            <a:ext cx="1270080" cy="1269720"/>
          </a:xfrm>
          <a:prstGeom prst="wedgeEllipseCallout">
            <a:avLst>
              <a:gd name="adj1" fmla="val 4162"/>
              <a:gd name="adj2" fmla="val 80587"/>
            </a:avLst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  <a:ea typeface="Gill Sans"/>
              </a:rPr>
              <a:t>ровесник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"/>
          <p:cNvSpPr/>
          <p:nvPr/>
        </p:nvSpPr>
        <p:spPr>
          <a:xfrm>
            <a:off x="939960" y="1676520"/>
            <a:ext cx="1269720" cy="1269720"/>
          </a:xfrm>
          <a:prstGeom prst="wedgeEllipseCallout">
            <a:avLst>
              <a:gd name="adj1" fmla="val -63402"/>
              <a:gd name="adj2" fmla="val 58453"/>
            </a:avLst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  <a:ea typeface="Gill Sans"/>
              </a:rPr>
              <a:t>ровесник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"/>
          <p:cNvSpPr/>
          <p:nvPr/>
        </p:nvSpPr>
        <p:spPr>
          <a:xfrm>
            <a:off x="1044720" y="2224800"/>
            <a:ext cx="1085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товарищ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"/>
          <p:cNvSpPr/>
          <p:nvPr/>
        </p:nvSpPr>
        <p:spPr>
          <a:xfrm>
            <a:off x="2563560" y="2351880"/>
            <a:ext cx="127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одногодок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"/>
          <p:cNvSpPr/>
          <p:nvPr/>
        </p:nvSpPr>
        <p:spPr>
          <a:xfrm>
            <a:off x="4808520" y="2491560"/>
            <a:ext cx="12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однолеток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"/>
          <p:cNvSpPr/>
          <p:nvPr/>
        </p:nvSpPr>
        <p:spPr>
          <a:xfrm>
            <a:off x="1590840" y="3888360"/>
            <a:ext cx="121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одних лет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"/>
          <p:cNvSpPr/>
          <p:nvPr/>
        </p:nvSpPr>
        <p:spPr>
          <a:xfrm>
            <a:off x="3778920" y="4741920"/>
            <a:ext cx="1078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одного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возраста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736560" y="-95400"/>
            <a:ext cx="10096560" cy="7710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98400" y="1060560"/>
            <a:ext cx="8128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0007"/>
                </a:solidFill>
                <a:latin typeface="Times New Roman"/>
                <a:ea typeface="Times New Roman"/>
              </a:rPr>
              <a:t>"Крылатые выражения 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"/>
          <p:cNvSpPr/>
          <p:nvPr/>
        </p:nvSpPr>
        <p:spPr>
          <a:xfrm>
            <a:off x="965160" y="1727280"/>
            <a:ext cx="795024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итать в облаках» - так говорят, когда человек мечтает,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лекается, уходит от действительности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"/>
          <p:cNvSpPr/>
          <p:nvPr/>
        </p:nvSpPr>
        <p:spPr>
          <a:xfrm>
            <a:off x="1485000" y="2758320"/>
            <a:ext cx="509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Г В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"/>
          <p:cNvSpPr/>
          <p:nvPr/>
        </p:nvSpPr>
        <p:spPr>
          <a:xfrm>
            <a:off x="1419120" y="2822400"/>
            <a:ext cx="257400" cy="289080"/>
          </a:xfrm>
          <a:prstGeom prst="line">
            <a:avLst/>
          </a:prstGeom>
          <a:ln w="38160">
            <a:solidFill>
              <a:srgbClr val="d90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71880" y="2641680"/>
            <a:ext cx="1002960" cy="1003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341880" y="2275920"/>
            <a:ext cx="3268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,,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"/>
          <p:cNvSpPr/>
          <p:nvPr/>
        </p:nvSpPr>
        <p:spPr>
          <a:xfrm>
            <a:off x="3886920" y="2936160"/>
            <a:ext cx="203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"/>
          <p:cNvSpPr/>
          <p:nvPr/>
        </p:nvSpPr>
        <p:spPr>
          <a:xfrm>
            <a:off x="4320720" y="2936160"/>
            <a:ext cx="427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ТЬ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"/>
          <p:cNvSpPr/>
          <p:nvPr/>
        </p:nvSpPr>
        <p:spPr>
          <a:xfrm>
            <a:off x="5015520" y="2936160"/>
            <a:ext cx="230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470560" y="2638440"/>
            <a:ext cx="1338120" cy="1003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19120" y="3784680"/>
            <a:ext cx="66801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«Львиная доля»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бо́льшая (лучшая) часть чего-либо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219320" y="4265640"/>
            <a:ext cx="1822320" cy="774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3033720" y="4267080"/>
            <a:ext cx="2185920" cy="7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736560" y="-95400"/>
            <a:ext cx="10096560" cy="7710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14240" y="1104840"/>
            <a:ext cx="70232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«Гордиев узел» 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утанное дел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Чрезвычайно сложный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е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вязанный, согласно древнегреческой мифологии, фригийским царём Гордием, а впоследствии рассечённый мечом Александра Македонского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095560" y="2563920"/>
            <a:ext cx="4432320" cy="1220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/>
  <cp:revision>0</cp:revision>
  <dc:subject/>
  <dc:title>PowerPoint Presentation</dc:title>
</cp:coreProperties>
</file>